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6C0-0D65-4899-8790-54311065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8E9-F551-4310-8C68-2F31345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77481-1DE8-455B-ACD3-4AC69BB9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D90DB-9A69-48D9-AA33-E971687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4BA87-6900-4690-8750-F1C1E18F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73721-7E6B-4B29-83A7-AAC652F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25CB2-DBCE-4907-9DD9-73755BB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6DC5F-5F13-4DAB-9293-1F6E9684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C39C3-139D-4B62-9E82-3C87E67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7B529-4B49-40FC-801B-A5233E5F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6F24-C8AD-484B-88DD-C40E674E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716FF-FFD7-4E6C-8CFE-D45EC111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00A-4ECA-43AC-9F84-CA3582E4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71E38-26F8-4AC2-9DF9-1821183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07E7A-BDB9-43CB-A18C-D519D2EC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1EC7B-13EF-4D6A-8753-1AABF71F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C8AFD-FDFE-4E74-8F97-0100315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B14E7-0606-4696-8A93-9D00D1A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4525F-9E1A-4F41-AE03-D9A222A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B0523-67B6-404F-80DB-4C5C95C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7A9C5-2E1C-49ED-9038-BF0806D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34A3F-8B17-45D4-93F0-A97F044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A20BF-BD62-4C8E-8284-5172C90B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EEE-412A-4C21-83C6-D3EC96C8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8B10A-42CD-409B-88C8-503410E7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0ABC9-ED83-495F-80B3-618950F7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8F87C-2411-43C7-AEC4-7CE56B10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225AB-9CFC-44EE-AA2C-11FFD4C2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16905-6169-4736-AF88-107AD737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58153-8B65-4969-8768-74E12830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59402-853D-43BE-AC02-1748E0A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8920C-93E5-4DF4-A98A-DFAA9183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47D26-1A42-403E-9583-288B4457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152B9-FCBF-481C-AE0A-54B8E55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3B6F-2088-4D5E-8E4C-03E1B3C8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560AB-2920-4185-908F-790376D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DE3C-3072-494F-81A4-64FEA10C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A4CAF-321D-4237-9BCE-BB6821F6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3BAFD-AC22-42EA-9674-DFC3C0B9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D4E99-4BBF-4C55-B322-8A196FC3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BAF2A-876A-4D19-BDE5-BBE76FA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2D9E1-11F0-42EA-A229-3313C97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91F33-1986-4CB2-9ECA-5813A8C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7DCD0-EB00-487F-ADCB-C85FA98D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5ADF3-6DBD-4478-99E5-915ED5F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A8C3-EB4B-4E4E-9F69-F70705B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04FB8-898F-4C1B-899C-E2DE45C4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2F167-8400-4FB7-ADFE-FD79930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B8949-0570-4E55-B1DE-01B7586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7522A-1E6B-4773-83A8-D2584845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B3AB9-FAF4-4D56-B1BC-7A74F837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4D642-362D-40CF-86E6-C6F07CAA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C4968-D198-4ECE-BC5D-7E561B9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583D6-AFBB-4C3D-824E-08DD015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174FE-D14E-41D1-9A11-B0147E95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36D9A-15A6-4FA4-BCE4-6E3DC02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A700-7773-4328-9038-B74F994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4A90E-069D-4323-9699-E645BE4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6F537-4EC8-427E-9ABD-801202D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01320-702C-4DB2-9742-6886307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BA43F-6B6A-46CD-8C1C-B5C7C75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2E6DC-E776-418D-83B2-700106AA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C1D14-5D67-4AE2-B00A-30802968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311FD-DB9C-40D3-B132-064E873F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F051C-707B-4350-901F-4ADAA442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12AC5-6837-47E7-A265-A7CAE4DF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3C4ED-A89C-42B7-86FC-8675BD10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160F-755A-4C5E-BCD6-006E398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198B6-E40C-4FFD-B8CC-849313EC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999ED-4E2C-4998-BE8C-E2A5A22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891AB-C1A6-4801-800E-1F36AF29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71DAA-EA18-4E98-8E06-7DD33D2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F7DA2-0726-4F59-9C5C-5431A28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D106B-129C-4D7E-97C9-0E82CFA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C6585-350D-4EC1-81DE-05F7C0C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5C0D3-5443-44F3-A684-984B463C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45727-DB9E-47EE-8B70-D281AF93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2C9F6-DC27-419F-9776-BACCA1CD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F720-CD84-4354-89CF-732777D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EB2DF-438F-4E37-B6B5-9A083B16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DE9E1-23F0-42EE-917C-E1ACBCA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7B742-0260-4954-BC1A-5E561FF2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446E6-7F0A-48D8-A017-1FB3CF47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8E9EB-CC2B-4BC2-AA83-C35E51CA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99FE1-6509-4B5F-89B2-DE85887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4F2F7-BE38-4D73-BF0A-7431E108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F269A-51B9-4609-A0BE-725F0EC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4AE8F-D15E-4823-B6D0-03E5A91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33738-91F0-436A-A7F0-EB51A053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559-A35F-4C2F-A6C4-5AD6C73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E84DE-65AB-4670-8B9E-2922A4FA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C9447-94B1-484E-8198-4D74D957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4EFAB-1C87-447F-BA66-8DD27588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BFB6D-9F20-4D4B-84EF-C769765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736F8-DC5E-4B49-ABE0-162132C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260F5-8235-42F0-AE14-48818344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6BC69-A948-4BE1-AB38-97043AF7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60B87-46D3-42D8-9635-CBE6664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B08E2-CA64-4C6B-A1DA-656D50B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F45D8-352A-43BF-A697-05DA459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3560-8F0B-4B29-8D6F-3D8F141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572BD-6CA3-4113-88DF-4BF6E587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B368D-BF25-402C-B2A5-FC132A8F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CA866-75EF-45A9-A5B5-BB76D0AB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ABAAC-977F-4743-810C-2BF4D89F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CC400-2D6A-4DF1-87B9-BCF0BA3B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BCDB0-0437-48D5-A183-27DA1544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F7B89-021F-445A-8ABA-C9A2074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087BE-37D5-4C18-98E0-8FE2F8B2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BB19A-0686-41E5-83AC-F4CFE71F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FBE5F-7F7F-4E73-AEE5-B07506C3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630-5486-4DCB-8C9B-F9125998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404-A22D-4260-B053-A89801B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5AAB2-D761-4DE0-BC10-98EBFDED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08B91-28C6-418F-890D-C5570D3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5950F-D830-4971-ABB2-45DC27D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4426B-907B-43FA-95C3-25118B58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BD0C0-4456-44DB-857B-F84600F7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E5089-5EFB-4FC0-92EA-E29DD435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CDE86-4ABD-4D19-B622-88238A2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0A087-AF0C-4092-B170-FBFA93A9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7E4E4-BDB9-4BA4-BA69-A2D5FFA9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1B7F1-5B4B-426D-9FB9-65D6553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EF3C-0615-40D4-933D-7D61054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DF2FE-670D-4FCC-B4D3-52BF3B8A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C677F-6E47-4E7F-94EF-BA04575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A63A3-E2E4-4A76-A42C-3F00A0A1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36153-7FF7-40AF-A4F5-B46C53A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25761-3D4F-4786-8061-F1C5A10A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44E1A-CF27-4A2C-94E9-3111BCA5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B1448-8397-47C1-87D2-9FB994BE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B842F-DF6C-4B1D-9DC7-52B18638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F529E-0C26-4182-B4F2-72B879CC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A6EEA-0EBD-4E78-8B78-D6D31F19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86F-A88B-4D75-B1B0-3E65D5F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6181F-C81D-4B11-A204-C29376F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61F67-A305-41BA-91A6-44A8174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90677-F042-485B-B575-8E5F1F32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4537F-E86D-42F1-BC04-7978183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EC087-1547-43D4-AEB2-FB7F844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4BAA0-A272-4556-AFDB-0EDA0AB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37B66-2DB0-42AF-9B35-C68964B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74466-219F-4C0F-BE88-FB190F4A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6F101-F911-49A0-A9C6-E1207DB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3F3E6-508B-4BEB-BEF6-0AF4D47C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59BF-790D-4F60-80CB-1ED63535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9B9FA-0015-47E9-AE83-2BDE74C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47BDC-F43A-41C8-8F48-E10125FC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DDE39-88CF-47E6-8BA3-4B2BF655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7DAAE-199E-4D0B-8714-38AEB12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9593A-F1DD-49BC-AECF-37EAE0E0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76341-ECEF-46A2-95F8-3E3CCBD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73203-4706-45A6-A195-74CC70B3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7CAC7-1459-4B05-ADF2-4DBA06A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CF9A16-844A-48D2-90FD-61BC8B9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5BAEF-FEB8-46BC-8CED-CFE32A89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A58-7739-4E02-8B36-25634514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D1BE1-2CFC-4C98-BCA8-8E76A8A5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A0DA3-E97B-4EF6-90AF-6328BD93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9A11B-53BE-452F-AB7E-4ACE948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B03A2-05FF-4287-A37D-C1E8EAD5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D36BE-B39A-4195-ADED-D09BE995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469CF-58BF-4A2C-85C8-CBCFABF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DDBB5-9B8B-49F9-A597-8C42C4C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B42EF-616D-493A-A9C5-FC633AA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3AA67-5755-41FF-B071-D6CDDA81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31C2F-BB2B-4D23-8686-36DA1A8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40FF-7F5A-47DA-8E67-C4FCB86A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EE001-D4A8-44CB-955A-F79D5ED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E0CD6-A407-40CF-AD07-C3090323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E065D-23EC-4A85-8ACF-75A9DEE1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FB8B-4ED9-475C-8109-85ACDCA8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0AD0-AC64-4BC1-80A8-886D27E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FFA7-E276-45C0-92D6-6FB0B893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B5D6-9CBC-4790-84DF-FFD74FC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D60-2A41-46CA-839A-CAEF4FB5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4EDE-4AFA-4D00-8D55-4AA5A33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206D-A1C5-4CD3-80EC-CDEAD0E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F921-878E-4C77-88AB-0AB46A9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8A56-D315-47E5-A5C1-FCF7379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D7EB-4108-4725-88B9-2854B3AF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5C42-A4E8-412D-9FF5-45B63AFB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8F74-F5E9-464B-8738-7C2C762B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C4DB-80A7-41B9-BC50-711680ED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2D6A-A71A-4979-9129-CC93EFBB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0BBC-BD16-447D-9130-D32DCFB3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63B-2AEA-4606-8170-8B255D32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C250-4F8F-42F6-AB1E-E1F164A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00D5-6651-44D3-B9BA-42961C9F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B4B4-479C-4FE6-BF82-4FD4DA92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B42F-6B9B-4D7D-87F9-125EAA9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8B51-C325-494F-87AF-64B25CC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DD30-6F13-4188-B5AC-4B1E286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0F091-F648-40C1-83F7-85EE5E42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A8E2-9CAC-4628-8F22-AF67A76A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C3A0-A32C-420E-8AE6-6DDF7E90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EE09-56A7-436E-AE18-6CB6AC48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1EC-4EC1-42A7-8969-4E4B869D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A168-3023-4A0F-8B67-D7D307E8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8348-D569-4D0E-8B90-7172A0D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AB2E-1598-4B8E-A5BF-CB17A016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8333-21BB-44F4-8475-E1568D5F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8439-F761-4367-B0BA-9F3FDF9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FF7C-16CF-4031-8A47-2FB43F7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6E08-DB90-47A8-BCCA-E3A3129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386F-7499-4F72-B37A-59E753C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6FFE-B8EA-4953-9C83-75F0F0E7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EA1D-1443-4409-835C-B7249A97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BFC-E436-47EA-9A5E-909E295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2BC5-2F3B-4161-A2F3-08C0DAA9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267E-E768-42C9-AE55-7AF59997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E44B-FFA8-4E26-A830-A5620C1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6526-8820-4633-8EBB-8212C14F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BD273-21F9-4661-A113-324777AA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B521-9D64-423C-91B0-A64ACD6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5932-234C-4F0A-88CB-C5346B31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FE61-BF66-4093-A8E1-025CBEE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3A8C-4B0B-4AD7-91AC-D1FC5D9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AC25-AE66-4A25-ABBE-E2F8472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BA1-EF5B-4A7E-8FBF-33EFAEC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EDFA-9FBB-4122-95A1-0CDDE91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5BC2-9256-4A38-9959-91CF2132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AD62-35BB-4172-972A-0D5DAC0F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22F4-0CDF-45B8-A544-91DBB6DC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6FF8-D0C9-46C2-877F-071575C3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992E-762E-4CD3-92F7-2E5D6256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3A65-0F37-4417-A307-C172448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B2CB5-17CD-4C20-A990-CC0A450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8129-38B8-4B1E-8F29-9110ABE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B7D6-5020-459C-B1B1-A45D29B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899-9FF5-420D-A7D8-48EE7D0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3E4E-BC8F-47A6-849C-FF80A35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55B1-616A-447D-8FB9-0E9C17C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6B6D-4559-485D-8E13-36C1E5A3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02C6-2829-4E9C-9927-9D66A06F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F84E-E133-415A-B57D-CFE7FFEE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005E-3CAE-43B1-B099-D92A9322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64AB-425A-4C00-B27E-CD15EFB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7955-A67F-42B4-9A07-680D1DA9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59C2-86B0-445C-9B87-6BFC7B1B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023F-DFB5-48CB-8AE6-15115EF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C95-C2B9-4AF6-93F9-43A2F93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954C5-4357-4702-BD73-814C4C4A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9A4F4-48E9-4AE3-8F8C-B81FCEB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92F92-340E-4351-8136-98348C1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3490E-86F3-4D47-812E-CF31195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71345-0858-449F-9FB8-3831056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33559-1C9B-46AE-AD3C-84AB7C67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0948C-1A03-4044-81C6-B9587486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A980F-5525-42DB-B580-F485A345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52C1-61C6-4AE3-8828-07C385CF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8A883-9DD6-42B4-AADD-C3303573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B46E-CDBD-4B1F-865B-4CEC1FC185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2677-D0D9-473C-97E9-3382D1909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462-FD19-4DBE-B927-76908059E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848-87A7-4F99-BCB8-14967C12E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1314-97B2-4065-B428-C7C5DCF91C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184-EEE4-4244-8A04-D4CACE4FD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B100-0590-4D04-936E-815C7955C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6B84-E2F8-4092-9003-DAA3665E8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253-9B4A-451B-8613-5FB77C963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0DE8-CAEA-4156-AA55-8DBEDAC75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70B-D94A-4E8E-A1DF-29F074C52C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410-9A50-42C8-B8BA-61384AC34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73F-DE8E-4418-BEB9-0569B08C9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6D6E-6AA0-47C8-9921-617A8F665D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A2ED-49EA-48A7-894F-1873AFE2E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16EB-09CC-41B2-A73E-46A8449E0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9119-0B90-47DC-8CBF-9F36E0C42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982B-8A18-4F83-89C9-580A73E1E8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56FB-7617-4902-98AD-CA539D872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ACA-DFDB-4FE6-B188-F6A1B0282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F3A0-6AD8-4736-AF53-0AF3A18018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CDF-B49A-4F86-ABDD-7107F6D14C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81AB-CB05-4B05-8D69-7041C86D6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64C-E92D-4BDD-8AF2-C790FD9753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DA02-4BCB-406D-84CF-64B333065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094-CC75-4F4D-9371-185220791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093-35A8-48C1-9A98-603A47BD4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15A6-EC2F-4E5F-979A-FC95E2B48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C92B-4B84-4767-927A-A75F9F56D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AE17-7CA4-41DF-B752-C49AA127A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3F06-E66B-43FB-9843-B15E6FFB8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3BDA-FC9D-4A0B-BBAC-945A9BB20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89A5-AC43-4A8C-9324-530D5341E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DF0-8470-4BAC-8E65-45C0F79D7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44C9-7F6B-4513-81B9-4933593F50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196-1BDE-4DE2-84EE-A4240E56E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7F7-D43C-4FE7-BB73-D14C306F6D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65A-020A-4F93-9206-2249BC7FF6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723-FC71-4721-8C29-774FC43D2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DE7-C11F-4734-BABF-5E064DF4C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43080" y="1916280"/>
            <a:ext cx="8458200" cy="752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62280" y="3338640"/>
            <a:ext cx="36194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9633" descr=""/>
          <p:cNvPicPr/>
          <p:nvPr/>
        </p:nvPicPr>
        <p:blipFill>
          <a:blip r:embed="rId1"/>
          <a:stretch/>
        </p:blipFill>
        <p:spPr>
          <a:xfrm>
            <a:off x="657360" y="879480"/>
            <a:ext cx="7829280" cy="542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4932360" y="331488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4932360" y="410544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4024440" y="410544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3146400" y="40910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4052880" y="498492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3174840" y="4970520"/>
            <a:ext cx="5032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1886040" y="1785960"/>
            <a:ext cx="5371920" cy="32860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432000" cy="433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2916360" y="2637000"/>
            <a:ext cx="431640" cy="4330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4"/>
          <a:stretch/>
        </p:blipFill>
        <p:spPr>
          <a:xfrm>
            <a:off x="4054320" y="26510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5"/>
          <a:stretch/>
        </p:blipFill>
        <p:spPr>
          <a:xfrm>
            <a:off x="4932360" y="26510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6"/>
          <a:stretch/>
        </p:blipFill>
        <p:spPr>
          <a:xfrm>
            <a:off x="5810400" y="26654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7"/>
          <a:stretch/>
        </p:blipFill>
        <p:spPr>
          <a:xfrm>
            <a:off x="4932360" y="3529080"/>
            <a:ext cx="431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685800" y="942840"/>
            <a:ext cx="7772400" cy="5581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763640" y="22194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932360" y="22194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5580000" y="328464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824440" y="501336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4572000" y="5487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588000" y="5487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4960800" y="5891040"/>
            <a:ext cx="576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00120" y="1490760"/>
            <a:ext cx="7943760" cy="3876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556000" y="383220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443640" y="38322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2556000" y="4869000"/>
            <a:ext cx="576000" cy="433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6443640" y="4869000"/>
            <a:ext cx="57636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423720" y="1290600"/>
            <a:ext cx="8296560" cy="42768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3635280" y="484020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885080" y="4854600"/>
            <a:ext cx="50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547560" y="955800"/>
            <a:ext cx="8048880" cy="5352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247920" y="34574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380360" y="34574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564000" y="50990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3132000" y="558972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5724360" y="5560920"/>
            <a:ext cx="5032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423720" y="1562040"/>
            <a:ext cx="8296560" cy="373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3024360" cy="2376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2771640" y="254952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5435640" y="315612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6730920" y="249228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743040" y="2014560"/>
            <a:ext cx="7657920" cy="2828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411280" y="204480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5062680" y="2708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6357960" y="204480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647640" y="1905120"/>
            <a:ext cx="7848720" cy="3047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2554200" y="204480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443640" y="204480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128520" y="1938240"/>
            <a:ext cx="8886960" cy="2981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798480" y="3557520"/>
            <a:ext cx="6697800" cy="4334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6697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3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